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90F7A1-B0B7-4714-852F-B81497819E9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BD4C84-341B-4C4A-B706-8175D21392F5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61FD05-8590-42F5-94FB-6B278F86F042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DBCE9A-A50E-4182-A64D-E4ADC8F98EA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EC21B0-9655-4771-812C-DCC521E063DC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C0E8B6-BE2B-426A-8D06-41BE8C4A5C6C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AF9BEF-211B-49CF-97D9-C0811C78333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AA7-DF62-4818-948A-D9B469C4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A20-CEE6-4AF2-ABF7-8364154B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5F2-AD0A-437A-88F6-A6D9F932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DDB-944D-4D2B-8A44-A5AAEF04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F10-6C8C-40A2-B0C1-C34BE5C2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9A5E-DB48-4D37-A176-AFD526D7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670-4676-4D43-B3E4-A8EC838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5EC3-CD52-4684-97A2-43D37B5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3190-CC1A-4EF2-95E3-1A6CE1C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6128-ED75-4B80-859B-CCA4D35F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1B2-BB5E-4B50-ABF6-3D8FA13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3FB-9AB1-4B93-8D22-8AA9668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0AF9-2445-47D4-A35D-C6E021C8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39F-FE74-4484-8FE1-FDF60DD3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91F9-775A-432B-B25D-977CC22E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33F2-8B72-4C06-9737-15DEBAA3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2FC-32ED-4D9C-A352-1205DB0F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08A-7B5B-473E-BAD3-2280F087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8DF-9BE5-40BD-995F-4ACACC4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93C-A3EE-4FF5-967F-27AF87C4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58F-7F79-40F1-AC0A-73F6293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66D-7466-49B2-9517-347BD9F9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ABC-5FBE-4B66-8E18-9B8AA85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4D9-B2EC-47A7-AC01-44EF9CB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893-D112-426E-BBAD-79B894E96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6AE5-8936-4911-9718-625F3C3F88D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k and Select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ata structur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326160" y="1916280"/>
            <a:ext cx="7807680" cy="478800"/>
            <a:chOff x="326160" y="1916280"/>
            <a:chExt cx="7807680" cy="478800"/>
          </a:xfrm>
        </p:grpSpPr>
        <p:sp>
          <p:nvSpPr>
            <p:cNvPr id="94" name="Rectangle 21"/>
            <p:cNvSpPr/>
            <p:nvPr/>
          </p:nvSpPr>
          <p:spPr>
            <a:xfrm>
              <a:off x="774720" y="1963800"/>
              <a:ext cx="73591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95" name="Group 22"/>
            <p:cNvGrpSpPr/>
            <p:nvPr/>
          </p:nvGrpSpPr>
          <p:grpSpPr>
            <a:xfrm>
              <a:off x="326160" y="1916280"/>
              <a:ext cx="4509720" cy="459720"/>
              <a:chOff x="326160" y="1916280"/>
              <a:chExt cx="4509720" cy="459720"/>
            </a:xfrm>
          </p:grpSpPr>
          <p:sp>
            <p:nvSpPr>
              <p:cNvPr id="96" name="Text Box 23"/>
              <p:cNvSpPr/>
              <p:nvPr/>
            </p:nvSpPr>
            <p:spPr>
              <a:xfrm>
                <a:off x="869400" y="1976400"/>
                <a:ext cx="39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$Battle$Car$Cold$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Text Box 24"/>
              <p:cNvSpPr/>
              <p:nvPr/>
            </p:nvSpPr>
            <p:spPr>
              <a:xfrm>
                <a:off x="326160" y="191628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98" name="Group 20"/>
          <p:cNvGrpSpPr/>
          <p:nvPr/>
        </p:nvGrpSpPr>
        <p:grpSpPr>
          <a:xfrm>
            <a:off x="511200" y="4721400"/>
            <a:ext cx="7828920" cy="459720"/>
            <a:chOff x="511200" y="4721400"/>
            <a:chExt cx="7828920" cy="459720"/>
          </a:xfrm>
        </p:grpSpPr>
        <p:sp>
          <p:nvSpPr>
            <p:cNvPr id="99" name="Rectangle 21"/>
            <p:cNvSpPr/>
            <p:nvPr/>
          </p:nvSpPr>
          <p:spPr>
            <a:xfrm>
              <a:off x="980640" y="4726080"/>
              <a:ext cx="735948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00" name="Group 22"/>
            <p:cNvGrpSpPr/>
            <p:nvPr/>
          </p:nvGrpSpPr>
          <p:grpSpPr>
            <a:xfrm>
              <a:off x="511200" y="4721400"/>
              <a:ext cx="4828320" cy="459720"/>
              <a:chOff x="511200" y="4721400"/>
              <a:chExt cx="4828320" cy="45972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1222200" y="4738680"/>
                <a:ext cx="411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  100000  100  1000  100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511200" y="47214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03" name="Text Box 50"/>
          <p:cNvSpPr/>
          <p:nvPr/>
        </p:nvSpPr>
        <p:spPr>
          <a:xfrm>
            <a:off x="250920" y="261144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n string pointers to strings of total length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 log m) bits = 32 n bi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depends on the number of 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is independent of string length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541800" y="4221000"/>
            <a:ext cx="7808040" cy="479520"/>
            <a:chOff x="541800" y="4221000"/>
            <a:chExt cx="7808040" cy="479520"/>
          </a:xfrm>
        </p:grpSpPr>
        <p:sp>
          <p:nvSpPr>
            <p:cNvPr id="105" name="Rectangle 21"/>
            <p:cNvSpPr/>
            <p:nvPr/>
          </p:nvSpPr>
          <p:spPr>
            <a:xfrm>
              <a:off x="990360" y="4268880"/>
              <a:ext cx="73594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06" name="Group 22"/>
            <p:cNvGrpSpPr/>
            <p:nvPr/>
          </p:nvGrpSpPr>
          <p:grpSpPr>
            <a:xfrm>
              <a:off x="541800" y="4221000"/>
              <a:ext cx="4921920" cy="459720"/>
              <a:chOff x="541800" y="4221000"/>
              <a:chExt cx="4921920" cy="459720"/>
            </a:xfrm>
          </p:grpSpPr>
          <p:sp>
            <p:nvSpPr>
              <p:cNvPr id="107" name="Text Box 23"/>
              <p:cNvSpPr/>
              <p:nvPr/>
            </p:nvSpPr>
            <p:spPr>
              <a:xfrm>
                <a:off x="1165320" y="4281480"/>
                <a:ext cx="429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  Battle     Car   Cold    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08" name="Text Box 24"/>
              <p:cNvSpPr/>
              <p:nvPr/>
            </p:nvSpPr>
            <p:spPr>
              <a:xfrm>
                <a:off x="541800" y="42210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09" name="Rettangolo 1"/>
          <p:cNvSpPr/>
          <p:nvPr/>
        </p:nvSpPr>
        <p:spPr>
          <a:xfrm>
            <a:off x="4222440" y="5219640"/>
            <a:ext cx="419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0033"/>
                </a:solidFill>
                <a:latin typeface="Lucida Sans"/>
              </a:rPr>
              <a:t>Spaces are introduced for simplic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0033"/>
                </a:solidFill>
                <a:latin typeface="Lucida Sans"/>
              </a:rPr>
              <a:t>You could drop the $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ttangolo 19"/>
          <p:cNvSpPr/>
          <p:nvPr/>
        </p:nvSpPr>
        <p:spPr>
          <a:xfrm>
            <a:off x="700920" y="6246720"/>
            <a:ext cx="61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"/>
              </a:rPr>
              <a:t>How do you retrieve the k-th string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93560" y="435600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48436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121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3" name="AutoShape 37"/>
          <p:cNvSpPr/>
          <p:nvPr/>
        </p:nvSpPr>
        <p:spPr>
          <a:xfrm>
            <a:off x="79200" y="5500800"/>
            <a:ext cx="8893440" cy="13287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wo approaches: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akes |B| + o(|B|) bits of space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ims at achieving n log(m/n) bits, by deplyoing Elias-Fano + point (1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ttangolo 1"/>
          <p:cNvSpPr/>
          <p:nvPr/>
        </p:nvSpPr>
        <p:spPr>
          <a:xfrm>
            <a:off x="530280" y="1701720"/>
            <a:ext cx="83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B[1,m]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ossibly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|B| + o(|B|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7853400" y="44280"/>
            <a:ext cx="1248120" cy="703800"/>
            <a:chOff x="7853400" y="44280"/>
            <a:chExt cx="1248120" cy="703800"/>
          </a:xfrm>
        </p:grpSpPr>
        <p:sp>
          <p:nvSpPr>
            <p:cNvPr id="127" name="Text Box 4"/>
            <p:cNvSpPr/>
            <p:nvPr/>
          </p:nvSpPr>
          <p:spPr>
            <a:xfrm>
              <a:off x="7909920" y="44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AutoShape 5"/>
            <p:cNvSpPr/>
            <p:nvPr/>
          </p:nvSpPr>
          <p:spPr>
            <a:xfrm>
              <a:off x="7853400" y="442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9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393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813280" y="291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+ O(m loglog m / log m)  = o(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" name="Group 42"/>
          <p:cNvGrpSpPr/>
          <p:nvPr/>
        </p:nvGrpSpPr>
        <p:grpSpPr>
          <a:xfrm>
            <a:off x="7121160" y="3119400"/>
            <a:ext cx="1501200" cy="307080"/>
            <a:chOff x="7121160" y="3119400"/>
            <a:chExt cx="1501200" cy="307080"/>
          </a:xfrm>
        </p:grpSpPr>
        <p:sp>
          <p:nvSpPr>
            <p:cNvPr id="145" name="Text Box 43"/>
            <p:cNvSpPr/>
            <p:nvPr/>
          </p:nvSpPr>
          <p:spPr>
            <a:xfrm>
              <a:off x="7121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44"/>
            <p:cNvSpPr/>
            <p:nvPr/>
          </p:nvSpPr>
          <p:spPr>
            <a:xfrm>
              <a:off x="7701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45"/>
            <p:cNvSpPr/>
            <p:nvPr/>
          </p:nvSpPr>
          <p:spPr>
            <a:xfrm>
              <a:off x="8223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8" name="Group 50"/>
          <p:cNvGrpSpPr/>
          <p:nvPr/>
        </p:nvGrpSpPr>
        <p:grpSpPr>
          <a:xfrm>
            <a:off x="2887200" y="3432240"/>
            <a:ext cx="3260880" cy="1576440"/>
            <a:chOff x="2887200" y="3432240"/>
            <a:chExt cx="3260880" cy="1576440"/>
          </a:xfrm>
        </p:grpSpPr>
        <p:sp>
          <p:nvSpPr>
            <p:cNvPr id="149" name="Text Box 51"/>
            <p:cNvSpPr/>
            <p:nvPr/>
          </p:nvSpPr>
          <p:spPr>
            <a:xfrm>
              <a:off x="4003200" y="3719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0" name="Group 52"/>
            <p:cNvGrpSpPr/>
            <p:nvPr/>
          </p:nvGrpSpPr>
          <p:grpSpPr>
            <a:xfrm>
              <a:off x="2887200" y="3432240"/>
              <a:ext cx="3260880" cy="1576440"/>
              <a:chOff x="2887200" y="3432240"/>
              <a:chExt cx="3260880" cy="1576440"/>
            </a:xfrm>
          </p:grpSpPr>
          <p:sp>
            <p:nvSpPr>
              <p:cNvPr id="151" name="Rectangle 53"/>
              <p:cNvSpPr/>
              <p:nvPr/>
            </p:nvSpPr>
            <p:spPr>
              <a:xfrm>
                <a:off x="3698640" y="3700800"/>
                <a:ext cx="64728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2" name="Rectangle 54"/>
              <p:cNvSpPr/>
              <p:nvPr/>
            </p:nvSpPr>
            <p:spPr>
              <a:xfrm>
                <a:off x="4424400" y="3700800"/>
                <a:ext cx="51228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3" name="Rectangle 55"/>
              <p:cNvSpPr/>
              <p:nvPr/>
            </p:nvSpPr>
            <p:spPr>
              <a:xfrm>
                <a:off x="4960800" y="3699000"/>
                <a:ext cx="59328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4" name="Rectangle 56"/>
              <p:cNvSpPr/>
              <p:nvPr/>
            </p:nvSpPr>
            <p:spPr>
              <a:xfrm>
                <a:off x="5643360" y="3700800"/>
                <a:ext cx="50472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5" name="Line 57"/>
              <p:cNvSpPr/>
              <p:nvPr/>
            </p:nvSpPr>
            <p:spPr>
              <a:xfrm flipH="1" flipV="1">
                <a:off x="4345920" y="3840480"/>
                <a:ext cx="21564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6" name="Text Box 58"/>
              <p:cNvSpPr/>
              <p:nvPr/>
            </p:nvSpPr>
            <p:spPr>
              <a:xfrm>
                <a:off x="2887200" y="422136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7" name="Text Box 59"/>
              <p:cNvSpPr/>
              <p:nvPr/>
            </p:nvSpPr>
            <p:spPr>
              <a:xfrm>
                <a:off x="4362840" y="3432240"/>
                <a:ext cx="155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8         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58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0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161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3" name="Line 16"/>
          <p:cNvSpPr/>
          <p:nvPr/>
        </p:nvSpPr>
        <p:spPr>
          <a:xfrm flipV="1">
            <a:off x="2651040" y="3107880"/>
            <a:ext cx="3144960" cy="47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Select operation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166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1074600" y="2395440"/>
            <a:ext cx="56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is variable until the subarray includes k = (log m)</a:t>
            </a:r>
            <a:r>
              <a:rPr b="0" lang="it-IT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395280" y="2995560"/>
            <a:ext cx="8137440" cy="36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(log m)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, we store explicitly the position of the k = (log m)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1s, because we have at most (m/r) blocks of this type, each taking (m/r) * k * log m bits = O(m / log m) = o(m) bi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k ≤ r ≤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recurse by repeating the argument now with k’ = (log log m)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f r’ including k’ 1s &gt; log m bits, then store the k’ positions explicitly using O(log log m) bits each, thus O(m/log log m) = o(m) bits in total. Otherwise r’ &lt; log m, and thus a precomputed table is enoug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xtra space is </a:t>
            </a:r>
            <a:r>
              <a:rPr b="0" lang="it-IT" sz="2200" spc="-1" strike="noStrike">
                <a:solidFill>
                  <a:srgbClr val="990033"/>
                </a:solidFill>
                <a:latin typeface="Tahoma"/>
              </a:rPr>
              <a:t>+ o(m)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29840" y="49402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Via 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(|L| + |H| + o(|H|))</a:t>
            </a:r>
            <a:br>
              <a:rPr sz="3600"/>
            </a:b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Therefore B is not neede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449440" y="2979720"/>
            <a:ext cx="6100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Recall that by setting w = log (m/n) and z = log n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pace = n log (m/n) bits +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5737320" cy="863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2"/>
          <a:stretch/>
        </p:blipFill>
        <p:spPr>
          <a:xfrm>
            <a:off x="108000" y="2673360"/>
            <a:ext cx="143028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3"/>
          <a:stretch/>
        </p:blipFill>
        <p:spPr>
          <a:xfrm>
            <a:off x="2521080" y="4572000"/>
            <a:ext cx="2950920" cy="3729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6"/>
          <p:cNvGrpSpPr/>
          <p:nvPr/>
        </p:nvGrpSpPr>
        <p:grpSpPr>
          <a:xfrm>
            <a:off x="2484360" y="4984920"/>
            <a:ext cx="3024360" cy="576000"/>
            <a:chOff x="2484360" y="4984920"/>
            <a:chExt cx="3024360" cy="576000"/>
          </a:xfrm>
        </p:grpSpPr>
        <p:sp>
          <p:nvSpPr>
            <p:cNvPr id="183" name="Text Box 17"/>
            <p:cNvSpPr/>
            <p:nvPr/>
          </p:nvSpPr>
          <p:spPr>
            <a:xfrm>
              <a:off x="3240360" y="49849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84" name="Picture 19" descr=""/>
            <p:cNvPicPr/>
            <p:nvPr/>
          </p:nvPicPr>
          <p:blipFill>
            <a:blip r:embed="rId4"/>
            <a:stretch/>
          </p:blipFill>
          <p:spPr>
            <a:xfrm>
              <a:off x="2484360" y="52005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Line 21"/>
            <p:cNvSpPr/>
            <p:nvPr/>
          </p:nvSpPr>
          <p:spPr>
            <a:xfrm>
              <a:off x="342108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385272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40305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421308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450072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46785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51609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1619280" y="6380280"/>
            <a:ext cx="752616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Needs binary search over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547640" y="5908680"/>
            <a:ext cx="756144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uses L and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o(n)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CasellaDiTesto 4"/>
          <p:cNvSpPr/>
          <p:nvPr/>
        </p:nvSpPr>
        <p:spPr>
          <a:xfrm>
            <a:off x="5851800" y="4303800"/>
            <a:ext cx="2851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Build Selec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n 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o we need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extra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|H| + o(|H|)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2n + o(n) bits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Freccia giù 3"/>
          <p:cNvSpPr/>
          <p:nvPr/>
        </p:nvSpPr>
        <p:spPr>
          <a:xfrm rot="3957600">
            <a:off x="1541880" y="1911960"/>
            <a:ext cx="668160" cy="86364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Freccia giù 24"/>
          <p:cNvSpPr/>
          <p:nvPr/>
        </p:nvSpPr>
        <p:spPr>
          <a:xfrm rot="18644400">
            <a:off x="1717560" y="4454280"/>
            <a:ext cx="669960" cy="86364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/10 + n log (m/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</a:rPr>
              <a:t>v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1-11T17:05:10Z</dcterms:modified>
  <cp:revision>1227</cp:revision>
  <dc:subject/>
  <dc:title>Web Algorithmics</dc:title>
</cp:coreProperties>
</file>